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6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92F9-CF5E-4309-BF6A-BE998DBC36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94E7-3F06-4235-8274-E053889550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81B-6007-4959-B826-E3D47A3ED5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B34-8C6B-480A-BFB7-A248A53FDC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B75-8499-41AF-BAFC-3B7F4B5499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2FD9-ED34-4FA7-BB3A-0337B9EF61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4E84-2F89-40BF-8572-2355A0BBA7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6412-D71F-4D85-AC85-A1B5C75ACC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A050-96FB-4E86-AC9B-EB3E78BD93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9CC4-4FEF-44BE-80C3-43743B5CE0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426F-F4BD-42C6-9E1B-E5EBF4762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394-0260-4360-8858-26682FEED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66A-D048-4C04-96EA-5E08D941B0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2980-CF2C-4D60-B590-1DEDF9574D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F41C-E911-43B1-A222-08F27E9AD1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F52C-2260-40C4-BDFD-7E9B647F3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1E52-7F3E-4AAD-856E-4E4AE876A1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5115-8D01-4F2A-9C14-F7BFF53759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87B-2B38-4881-8DA1-B81781E656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20EC-260C-4F50-9822-DB3F75D988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866-853C-4187-9B65-DB4A92A597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2C5A-8AEF-4D03-8C6C-FD5A50232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29EC-86BC-43CF-926D-232B4A226B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066-980C-419B-9F6D-6780B21F43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A180-9473-41F4-9B16-1AF1B3971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BA6D-30CA-4A5B-806E-B9B5239FE6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43A-0D7A-444E-8C80-6C24CB91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41E-7CA7-4B57-8816-D413B99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634-C848-4A03-A5EF-42F35D2A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4F8-7E2D-42E9-A12E-FF0692EE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60D-D0A8-442D-885F-23DFBD87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0CF-A200-4C51-9556-61179EC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994-4997-4B68-A648-D853F83A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5FE-285E-4127-8E53-7D557994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7DD-7AAE-46D1-A0F4-17EBABB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46C-A0D7-4026-9278-BCE3519E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1BC-9B9B-4FB6-8283-A6DD5A9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3F0-4C01-4FFC-8320-982B352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C51C-9550-47A9-99E2-D6DA73B96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116000" y="853920"/>
            <a:ext cx="7826400" cy="289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28960" y="4285800"/>
            <a:ext cx="491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-логопед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альцева Е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Учитель\Рабочий стол\лексика ноябрь\i.jpg"/>
          <p:cNvPicPr/>
          <p:nvPr/>
        </p:nvPicPr>
        <p:blipFill>
          <a:blip r:embed="rId2"/>
          <a:stretch/>
        </p:blipFill>
        <p:spPr>
          <a:xfrm>
            <a:off x="7264440" y="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7476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4054680" cy="453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928760" y="1571760"/>
            <a:ext cx="38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ерхние и нижние зубы обнажен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убы растянуты в улыб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http://www.novgorod.fio.ru/projects/Project1201/11b.jpg"/>
          <p:cNvPicPr/>
          <p:nvPr/>
        </p:nvPicPr>
        <p:blipFill>
          <a:blip r:embed="rId3"/>
          <a:stretch/>
        </p:blipFill>
        <p:spPr>
          <a:xfrm>
            <a:off x="1000080" y="2357280"/>
            <a:ext cx="3929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0720" y="-225360"/>
            <a:ext cx="8242560" cy="165240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http://www.novgorod.fio.ru/projects/Project1201/12b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000080" y="1500120"/>
            <a:ext cx="3333960" cy="3386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642920" y="1785960"/>
            <a:ext cx="421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ытягивание гу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перед длин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трубоч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396720" y="182520"/>
            <a:ext cx="8624880" cy="124452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3" descr="http://www.novgorod.fio.ru/projects/Project1201/11b.jpg"/>
          <p:cNvPicPr/>
          <p:nvPr/>
        </p:nvPicPr>
        <p:blipFill>
          <a:blip r:embed="rId2"/>
          <a:stretch/>
        </p:blipFill>
        <p:spPr>
          <a:xfrm>
            <a:off x="1071720" y="1928880"/>
            <a:ext cx="2952720" cy="22478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http://www.novgorod.fio.ru/projects/Project1201/12b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572080" y="1857240"/>
            <a:ext cx="2643120" cy="235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1643040" y="50007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ередование упраж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93560" y="-73080"/>
            <a:ext cx="8242560" cy="1652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214280" y="1500120"/>
            <a:ext cx="738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Зубы сомкну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убы округлены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уть вытянуты впере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ерхние и нижние зубы вид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8242200" cy="165276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3" descr="http://www.novgorod.fio.ru/projects/Project1201/1b.jpg"/>
          <p:cNvPicPr/>
          <p:nvPr/>
        </p:nvPicPr>
        <p:blipFill>
          <a:blip r:embed="rId2"/>
          <a:stretch/>
        </p:blipFill>
        <p:spPr>
          <a:xfrm>
            <a:off x="928800" y="1500120"/>
            <a:ext cx="3571920" cy="3143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4429080" y="2357280"/>
            <a:ext cx="453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убы в улыб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приоткрыть 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кончиком язы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огладить «нёб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http://www.novgorod.fio.ru/projects/Project1201/2b.jpg"/>
          <p:cNvPicPr/>
          <p:nvPr/>
        </p:nvPicPr>
        <p:blipFill>
          <a:blip r:embed="rId2"/>
          <a:stretch/>
        </p:blipFill>
        <p:spPr>
          <a:xfrm>
            <a:off x="857160" y="1857240"/>
            <a:ext cx="3857760" cy="32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714920" y="763560"/>
            <a:ext cx="421488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*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улыбну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*открыть р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*кончик языка за       верхние зу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*кончик языка за нижние зу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3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42872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Рот приоткры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Губы растянуты в улыбк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Кончиком  узкого языка попеременно тянуться к уголкам р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Учитель\Рабочий стол\лексика ноябрь\свентябрь 2008 комп\консультации\14b.jpg"/>
          <p:cNvPicPr/>
          <p:nvPr/>
        </p:nvPicPr>
        <p:blipFill>
          <a:blip r:embed="rId2"/>
          <a:stretch/>
        </p:blipFill>
        <p:spPr>
          <a:xfrm>
            <a:off x="785880" y="2071800"/>
            <a:ext cx="370044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улыбнуться, открыть 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кончиком языка  «почистить» поочередно нижние и верхние зу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6" descr="http://www.novgorod.fio.ru/projects/Project1201/7A.jpg"/>
          <p:cNvPicPr/>
          <p:nvPr/>
        </p:nvPicPr>
        <p:blipFill>
          <a:blip r:embed="rId2"/>
          <a:stretch/>
        </p:blipFill>
        <p:spPr>
          <a:xfrm>
            <a:off x="814320" y="2428920"/>
            <a:ext cx="34718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http://www.novgorod.fio.ru/projects/Project1201/8b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071720" y="1785960"/>
            <a:ext cx="3357360" cy="3267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* улыбнуться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 * приоткрыть рот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 * положить широкий язык на нижнюю губу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719280" y="18579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43280" y="171468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Рот откры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Широким языком облизать верхню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Убрать язык в глубь р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Учитель\Рабочий стол\лексика ноябрь\свентябрь 2008 комп\консультации\15b.jpg"/>
          <p:cNvPicPr/>
          <p:nvPr/>
        </p:nvPicPr>
        <p:blipFill>
          <a:blip r:embed="rId2"/>
          <a:stretch/>
        </p:blipFill>
        <p:spPr>
          <a:xfrm>
            <a:off x="714240" y="2000160"/>
            <a:ext cx="403380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56800" y="1143000"/>
            <a:ext cx="74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В норме формирование звукопроизношения заканчивается к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4-5 год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улыбну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* широко открыть р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 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* высунуть широкий язы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  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* придать ему форму "чашечки" (т.е. приподнять кончик языка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Documents and Settings\Учитель\Рабочий стол\лексика ноябрь\свентябрь 2008 комп\консультации\im.jpg"/>
          <p:cNvPicPr/>
          <p:nvPr/>
        </p:nvPicPr>
        <p:blipFill>
          <a:blip r:embed="rId2"/>
          <a:stretch/>
        </p:blipFill>
        <p:spPr>
          <a:xfrm>
            <a:off x="857160" y="2286000"/>
            <a:ext cx="3516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600200"/>
            <a:ext cx="41385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риоткрыть ро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энергично проводить широким передним краем языка по верхней губе вперед и назад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обавить голос, пока не послышится: «бл- бл» ( как индюк болбоче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Учитель\Рабочий стол\лексика ноябрь\свентябрь 2008 комп\консультации\15b.jpg"/>
          <p:cNvPicPr/>
          <p:nvPr/>
        </p:nvPicPr>
        <p:blipFill>
          <a:blip r:embed="rId2"/>
          <a:stretch/>
        </p:blipFill>
        <p:spPr>
          <a:xfrm>
            <a:off x="785880" y="2143080"/>
            <a:ext cx="37861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ытянуть гу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приоткрыть 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поцокать «узким» языком  (как цокают копытами лошадк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4" descr="http://www.novgorod.fio.ru/projects/Project1201/b.jpg"/>
          <p:cNvPicPr/>
          <p:nvPr/>
        </p:nvPicPr>
        <p:blipFill>
          <a:blip r:embed="rId2"/>
          <a:stretch/>
        </p:blipFill>
        <p:spPr>
          <a:xfrm>
            <a:off x="1143000" y="1928880"/>
            <a:ext cx="323856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улыбну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присосать широкий язык к нё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* поцокать языком, будто едешь на лошад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4" descr="http://www.novgorod.fio.ru/projects/Project1201/5b.jpg"/>
          <p:cNvPicPr/>
          <p:nvPr/>
        </p:nvPicPr>
        <p:blipFill>
          <a:blip r:embed="rId2"/>
          <a:srcRect l="11769" t="0" r="7838" b="0"/>
          <a:stretch/>
        </p:blipFill>
        <p:spPr>
          <a:xfrm>
            <a:off x="785880" y="1928880"/>
            <a:ext cx="3357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2880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Насмешки сверс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шибки при письме в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пример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Коова»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- ко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роблемы при изучении иностранн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роблемы при поступлении в ВУ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920880" y="122400"/>
            <a:ext cx="7772400" cy="151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негопад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делать снежинки из ваты (рыхлые комочки), сдувать "снежинки" с ладо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истопад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Вырезать из цветной бумаги различные осенние листья и предложить ребенку подуть на листья, так, чтобы они полетел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раблик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Дуть плавно и длительно на бумажный корабл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Шторм в стакане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едложите ребенку подуть через соломинку в стакан с водой (нужно следить, чтобы щеки не надувались, а губы были неподвижным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2640" y="1428840"/>
            <a:ext cx="7543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оизнеси звук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(с, з, ч, ц, ш, л, р)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оизнеси слоги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(ра тра ар атр)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  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лова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(рак- крот-тигр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едложение 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(У Ромы грузовик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ихотворение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(Сорока-ворона…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Учитель\Рабочий стол\база картинок\клипарты м1\АРБУЗЫ\arbuz12.jpg"/>
          <p:cNvPicPr/>
          <p:nvPr/>
        </p:nvPicPr>
        <p:blipFill>
          <a:blip r:embed="rId2"/>
          <a:stretch/>
        </p:blipFill>
        <p:spPr>
          <a:xfrm>
            <a:off x="3857760" y="2286000"/>
            <a:ext cx="2539800" cy="165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Учитель\Рабочий стол\база картинок\фауна\животные\водные\givot08[1].jpg"/>
          <p:cNvPicPr/>
          <p:nvPr/>
        </p:nvPicPr>
        <p:blipFill>
          <a:blip r:embed="rId3"/>
          <a:stretch/>
        </p:blipFill>
        <p:spPr>
          <a:xfrm>
            <a:off x="1071720" y="1643040"/>
            <a:ext cx="2557440" cy="27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Учитель\Рабочий стол\база картинок\профессия\повар\povar05[1].jpg"/>
          <p:cNvPicPr/>
          <p:nvPr/>
        </p:nvPicPr>
        <p:blipFill>
          <a:blip r:embed="rId4"/>
          <a:stretch/>
        </p:blipFill>
        <p:spPr>
          <a:xfrm>
            <a:off x="6715080" y="185724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роткая уздечка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ысокое узкое твёрдое нёб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лишком большой или слишком маленький язы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правильное строение челюстей и зуб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ышцы губ и языка слабо натренирова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Массаж языка, гу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Развитие воздушной стру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682560" y="420840"/>
            <a:ext cx="868680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857160" y="178596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истема упражнений для речевых органов, которые проводятся ежедневно или несколько раз в де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20840" y="49320"/>
            <a:ext cx="8272440" cy="143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28800" y="1285560"/>
            <a:ext cx="7758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выработка полноценных движений и определенных положений артикуляционного аппарата, необходимых для правильного произношения зву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644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ыполняется ежеднев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еред зеркал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ремя выполнения 3-5 мину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От простых упражнений к слож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оследовательно, правильно, чет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@льцева Е.М. - учитель-логопед</dc:creator>
  <dc:description/>
  <dc:language>en-US</dc:language>
  <cp:lastModifiedBy>Учитель</cp:lastModifiedBy>
  <dcterms:modified xsi:type="dcterms:W3CDTF">2009-01-27T14:03:29Z</dcterms:modified>
  <cp:revision>20</cp:revision>
  <dc:subject>собрание для родителей</dc:subject>
  <dc:title>Артикуляционная  гимнастика</dc:title>
</cp:coreProperties>
</file>